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AA5A-4920-4C69-A466-CAD348A98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21B4-FDB5-4217-905F-86DDEAD905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078C-C79C-4F01-875C-FBFC18CA6A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TE listserv story on getting a college job. Promised you that reality checks would be balanced with action opportunit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 22 of career building—you need experience to get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say, this is great—except I haven’t really DONE anything yet/don’t have any professional exper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and am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ing holes. Professional students get good at responding to others’ demands, fulfilling requirements, discerning how to ‘get the A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o-called ‘real’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the shift to being in charge of your own career, taking the initiative, not waiting for the phone to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9A2D-4F87-423F-951A-E4F5E5450A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your resume to several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 spelling—special care with people’s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consistent with punctuation—and keep that simple—minimize semi-colons or elaborate punctuation systems. underlining,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lutter—parentheses, too many layers of commas, semi-colons, colons. Underlining is a holdover from typewriters (few op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ssy, poorly edited resume tells the prospective employer legions about you—if you don’t take care presenting YOURSELF, how will you present/relate to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pkin resume” sketched out quickly—content over form ;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learn about this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333E-B9AE-4438-A5F6-0FB3A0B5B3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DBF2-9971-400C-8A48-613C19760D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CV-writing handout if you plan to look for work in high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E8E6-2381-427F-B4C6-6F3E6A78CF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aLM p.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—everything you can think of/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g—specialty, high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formance resume may mention teaching (but with little detail). The teaching resume fleshes out the teaching experiences and just mentions the performanc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suggestions via email to others in you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4D41-CE15-49B2-8D18-97B8C4AEFD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 piece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ing—who has the goods? Experience, training, specific skills to fit the job (over or under qualified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ood looking resume won’t make up for poor training and no experie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ooking resume looks profess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; may help you get to the next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 your horn—resume is not the place to be modest or s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 h.s. experience (unless major competitions, awa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versions for different aspects of your career (one for performing, one for teaching, for ex); then tailor each one to the specific position you are seeking—many of you have already don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F3A1-B973-47A5-ABD0-92DB2DD504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” Examples. Face down on desk. Turn over, 10” scan. What do you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should they look longer at yours? What will set you apart? Get you to the next le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you make an individual impact when there may be a stack of applicants 2 inches thick? Best advice—always imagine your application as part of a huge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rue—all that work prepping and primping your resume—for a cursory g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our topic for to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on the board—then brainstorm (from Eastman list) to fil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—schools/degrees/+ tea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—bands/venues/leaders/tours/recording/show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; profess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skills—software; writing; repair; languages; teaching; arranging; compo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ture some categories that work for you and start filling in the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84D3-2D35-43C3-BBAE-5E8659E3E6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742F-DF62-42F6-9BA1-30D4D18EED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resumes are 1 page—goal is to get the audition opportunity. Keep it succin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at the top for awhile, especially if your experience is limited—school IS your experience at that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ly verbs—also quality and quantity verbs “Played with Grammy winner Ms X five times on tour in Europe to critical acclaim” Then include the re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info on the left: show example of both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quality neutral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 your ho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ume in a stack o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any high school references—even cool ones like all-state—unless you won a huge competition. Sadly perhaps, h.s. importance drops away quickly once you gradu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850E-DC1C-4C26-9F41-FE822412B2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A17D-3B88-4996-9F99-906956B9C0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ed local band directors and offered to do workshops on their instruments—led to private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he same with chamber ensem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sub auditions, commission new music, record a cd (how to be unique), enter competitions, audition to appear at conferences, do an exchange concert with a friend in another part of the country; get on performing arts ro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eer with an arts organization you’re interested in—ditto for inter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’re a designer, consider pro bono or bartered projects to build your professional portfolio of work, meet others, gain vi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AEA-0321-43AF-B678-6F7C1075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877-B332-459D-933A-CDDDD622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A35-3B58-430D-8A25-7EF4A7DD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46F-3352-4D14-9271-8440DD1B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EC81-BA01-49D1-95C5-8CB1B23F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DF9-927B-4234-A366-7311ECE7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554-D19F-4C23-81D8-B3872168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E7B-91CF-40C1-8D5C-6A84853C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105-4894-471D-923F-3EC95B8A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4D9-E751-4B1B-B86D-F5BB3CF4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0355-1187-4D36-8970-9D371D97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3FF-486A-481F-B618-F5929B0E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ACCE-DB29-4CEA-84C0-0E318C2879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95280" y="-36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Eras Demi ITC"/>
              </a:rPr>
              <a:t>Résumé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Eras Demi ITC"/>
              </a:rPr>
              <a:t>Tips for Musici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crossroads.jpg"/>
          <p:cNvPicPr/>
          <p:nvPr/>
        </p:nvPicPr>
        <p:blipFill>
          <a:blip r:embed="rId1"/>
          <a:stretch/>
        </p:blipFill>
        <p:spPr>
          <a:xfrm>
            <a:off x="1828800" y="1752480"/>
            <a:ext cx="5791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Eras Demi ITC"/>
              </a:rPr>
              <a:t>BUILDING your résumé, con’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how initiative and am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ow can you fill ho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 your experienc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backgr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inding and creating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construction2"/>
          <p:cNvPicPr/>
          <p:nvPr/>
        </p:nvPicPr>
        <p:blipFill>
          <a:blip r:embed="rId1"/>
          <a:stretch/>
        </p:blipFill>
        <p:spPr>
          <a:xfrm>
            <a:off x="4191120" y="18288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EDIT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EDIT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EDIT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7" descr="sotp"/>
          <p:cNvPicPr/>
          <p:nvPr/>
        </p:nvPicPr>
        <p:blipFill>
          <a:blip r:embed="rId1"/>
          <a:stretch/>
        </p:blipFill>
        <p:spPr>
          <a:xfrm rot="823800">
            <a:off x="3733920" y="838080"/>
            <a:ext cx="46767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resume"/>
          <p:cNvPicPr/>
          <p:nvPr/>
        </p:nvPicPr>
        <p:blipFill>
          <a:blip r:embed="rId1"/>
          <a:stretch/>
        </p:blipFill>
        <p:spPr>
          <a:xfrm>
            <a:off x="1785960" y="0"/>
            <a:ext cx="557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5715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Eras Demi ITC"/>
              </a:rPr>
              <a:t>Curriculum Vita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ac00cf"/>
                </a:solidFill>
                <a:latin typeface="Eras Demi ITC"/>
              </a:rPr>
              <a:t>Latin for "course of life"</a:t>
            </a:r>
            <a:r>
              <a:rPr b="0" lang="en-US" sz="4000" spc="-1" strike="noStrike">
                <a:solidFill>
                  <a:srgbClr val="ac00c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known as a “C.V.” or “Vita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re detailed résum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resume “bucket”—store everything you’ve don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specialized résumés off your 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Eras Demi ITC"/>
              </a:rPr>
              <a:t>Résumé Assignmen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(or revise)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 Resu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ter Resume (C.V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 page specialty res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ring draft to class on 10/6 or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Eras Demi ITC"/>
              </a:rPr>
              <a:t>Why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intro pie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accomplish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t your h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ver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7" descr="Toot-Your-Own-Horn"/>
          <p:cNvPicPr/>
          <p:nvPr/>
        </p:nvPicPr>
        <p:blipFill>
          <a:blip r:embed="rId1"/>
          <a:stretch/>
        </p:blipFill>
        <p:spPr>
          <a:xfrm>
            <a:off x="5181480" y="1523880"/>
            <a:ext cx="3700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Eras Demi ITC"/>
              </a:rPr>
              <a:t>Really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verage résumé is scanned for no more tha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8 – 10 SECO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Content Placeholder 7" descr="resumestack2.jpg"/>
          <p:cNvPicPr/>
          <p:nvPr/>
        </p:nvPicPr>
        <p:blipFill>
          <a:blip r:embed="rId1"/>
          <a:srcRect l="-17685" t="0" r="-17685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badi MT Condensed Extra Bold"/>
                <a:ea typeface="Abadi MT Condensed Extra Bold"/>
              </a:rPr>
              <a:t>Categories</a:t>
            </a:r>
            <a:endParaRPr b="0" lang="en-US" sz="7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resumesample2.jpg"/>
          <p:cNvPicPr/>
          <p:nvPr/>
        </p:nvPicPr>
        <p:blipFill>
          <a:blip r:embed="rId1"/>
          <a:stretch/>
        </p:blipFill>
        <p:spPr>
          <a:xfrm>
            <a:off x="1701720" y="0"/>
            <a:ext cx="574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Eras Demi ITC"/>
              </a:rPr>
              <a:t>Résumé ‘Riting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Eras Demi ITC"/>
              </a:rPr>
              <a:t>Quick Tips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 catching but simple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font “logo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our skil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ch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heir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info on the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DF for 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noH.S..jpg"/>
          <p:cNvPicPr/>
          <p:nvPr/>
        </p:nvPicPr>
        <p:blipFill>
          <a:blip r:embed="rId1"/>
          <a:stretch/>
        </p:blipFill>
        <p:spPr>
          <a:xfrm>
            <a:off x="1886040" y="990720"/>
            <a:ext cx="5205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Don’t include miscellaneous job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Eras Demi ITC"/>
              </a:rPr>
              <a:t>Résumé a little thin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—studio, works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 outside of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in professional orga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nteer at concerts, master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ships, related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savvy about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rite articles, songs, arrangements, adjudicate,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French Script MT"/>
              </a:rPr>
              <a:t>You’re limited only by your creativit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French Script MT"/>
              </a:rPr>
              <a:t>And time, of cours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sun&amp;stars.jpg"/>
          <p:cNvPicPr/>
          <p:nvPr/>
        </p:nvPicPr>
        <p:blipFill>
          <a:blip r:embed="rId1"/>
          <a:stretch/>
        </p:blipFill>
        <p:spPr>
          <a:xfrm>
            <a:off x="5040360" y="1371600"/>
            <a:ext cx="410364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4:49:34Z</dcterms:created>
  <dc:creator>HP Authorized Customer</dc:creator>
  <dc:description/>
  <dc:language>en-US</dc:language>
  <cp:lastModifiedBy>McNally Smith</cp:lastModifiedBy>
  <dcterms:modified xsi:type="dcterms:W3CDTF">2010-10-02T20:52:01Z</dcterms:modified>
  <cp:revision>50</cp:revision>
  <dc:subject/>
  <dc:title>Résumés</dc:title>
</cp:coreProperties>
</file>